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8.png" ContentType="image/png"/>
  <Override PartName="/ppt/media/image10.pct" ContentType="image/x-pict"/>
  <Override PartName="/ppt/media/image6.png" ContentType="image/png"/>
  <Override PartName="/ppt/media/image7.png" ContentType="image/png"/>
  <Override PartName="/ppt/media/image11.pct" ContentType="image/x-pict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DC30-5287-4BEC-A53B-7F1986F61D79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E8D3-BB0F-4365-8679-AC7E3963AF52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5840" y="7556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1160" y="4684320"/>
            <a:ext cx="4935600" cy="44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C482-7D99-40BD-807C-8984A9A9439E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6089-B1EE-4C80-A75E-B48119FF1A1D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5E1-9C59-49C7-9C74-EF6FBC58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1C0-3C1E-4829-B757-E0866A2E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46F-3029-4845-946A-30280853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A85-15E3-45BC-BA68-D418F200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BC98-5219-4C3B-8078-9B53D6DA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F3BD-A463-4532-8E2E-EE73C4B0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9E52-BFF7-40DC-B941-AC71579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4844-6B76-4400-92D3-D9E51F54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4C11-6E7D-4CED-AEE2-C9FD2E47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9A7B-F4FD-4C18-B1FA-D26F65F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7AA3-A92C-498B-B0D4-DF96A8BA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EE3-FB02-4B5B-BB74-B200A19D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92A6-D4DA-4DCB-AB9D-C4604FDE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C586-9909-44B8-BE2D-81FF3846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39EA-EDD9-4B4C-B7D1-5994F75E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389F-2C71-4672-A275-2547447F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FDC4-8B44-4219-AB99-7BBDCDFF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8CC-AD1E-4CC6-B44A-A60A39B8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99C-259D-473D-B63F-F6624E7F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00A-AA74-4F9A-8E0B-9A776EC5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B24-5AB8-48FE-B148-1A9DF42E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363-48C6-4926-89D9-D2AD2EDA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3D7-F44D-4B1F-8F24-39322E5E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1C1-FB28-4721-B029-E3F2B307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EE4F-F4F5-49B2-92B5-7861CB495C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B339-A211-4202-9CD2-D0E86D0CA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60000"/>
          </a:blip>
          <a:srcRect l="0" t="6987" r="0" b="6916"/>
          <a:stretch/>
        </p:blipFill>
        <p:spPr>
          <a:xfrm>
            <a:off x="1523880" y="457200"/>
            <a:ext cx="654840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URO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European Design Study for a high intensity neutrino oscillation facility 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Rob Edgecock, Mats Lindroos, Marcos Dracos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42D-B76A-437A-9302-D932879DCD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nagement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 and coordinate the 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 of the three fac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per beam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target and coll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am characteristics for the SPL superb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ations for the proton dr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utrino facto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muon fron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an acceleration scen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 a conceptual design for proton beam handling after the primary production target (proton beam dum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-to-end simulation of the neutrino factory compl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F42-7A72-4612-8580-61ECE0E830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ta-beam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acceleration scenario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tion of beta-beam isotopes with the production ring 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decay ring design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nue R&amp;D on bun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ctor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Magnetized Iron Neutrino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Cerenkov detec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near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hysics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physics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optimization of the different possible scena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a compari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E6D-57D2-4C81-8765-AA6EBB590D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ffort in people (120 person years)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92040" y="1001880"/>
            <a:ext cx="8359920" cy="57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178-8661-4A4F-8A6E-94BCB057B6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55640" y="1143000"/>
            <a:ext cx="7770960" cy="50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5B5-BF73-4D27-A7E4-AE4F39A528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12468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E2C-CDE5-40BF-B753-31503D9931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647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ney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tal cost: 14.45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C request: 4.8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tio: 33%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600200" y="3186000"/>
            <a:ext cx="628956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551-5BF1-4E40-9188-082859024E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me scal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short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work for 4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 hope to start beginning 20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use the last year for the comparison 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495680" y="762120"/>
            <a:ext cx="4214880" cy="60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A1F-AA1E-4872-B42B-F8DE5D0474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U decis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roposal got a top ranking in the evaluation of the proposa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been invited to negotiate for a maximum 4 MEuro EU financ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6518160" cy="31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1FF-60EB-49ED-9F56-786C4F435C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nnual meeting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295280"/>
            <a:ext cx="86104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nual meeting to gather the Neutrino physics community and report on the progress of th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meeting will be combined with task meeting, management meetings and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8: 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9: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0: RAL (Project 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1: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r are invited to particip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D42-3C62-42FE-9D41-FFDB97026F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635-F214-496F-95AA-7FCB0C9CA5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is an EU Design Study?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27 European Union member states is in the process of creating a common Research Area with common Research Infrastructur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U funding for research is organized as Frame Work programmers with different components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FP contributes with 5% to the total national research funding in Euro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are presently working within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F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one component in the FP and has as objective to provide first designs for possible common research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SFRI (European Strategy Forum on Research Infrastructures,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European roadmap for research infrastructure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committee establishes a priority list for new common infrastructure to which the EU is willing to contribut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the first step in the process to qualify for financing from the EU for the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the infrastructure to be constructed a member state(s) or an intergovernmental organization  must bid for it and offer an important part of the fund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national participation is strongly encouraged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915-273B-41DF-B560-34044221DE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2116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Work Program: 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Capaciti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71" t="628" r="452" b="1047"/>
          <a:stretch/>
        </p:blipFill>
        <p:spPr>
          <a:xfrm>
            <a:off x="228600" y="2819520"/>
            <a:ext cx="8688240" cy="371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4495680"/>
            <a:ext cx="1336680" cy="308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560" y="2286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U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3B0-3F5D-499C-B2E5-BDBC898726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Design Studies budge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32000" y="1052640"/>
            <a:ext cx="6491160" cy="5556240"/>
            <a:chOff x="1332000" y="1052640"/>
            <a:chExt cx="6491160" cy="55562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332000" y="1052640"/>
              <a:ext cx="6491160" cy="55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87440" y="3606840"/>
              <a:ext cx="1297080" cy="43164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20080" y="3398760"/>
              <a:ext cx="496800" cy="43200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6760" y="3587760"/>
              <a:ext cx="76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92720" y="376380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533-A175-44B5-AB6A-5F4B2C0E9C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EURONU D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recent discovery that the neutrino changes type (or flavour) as it travels through space, a phenomenon referred to as neutrino oscillations…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implications are far reaching…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Knowledge of the contribution of neutrinos in these areas needs precise measurements of the parameters governing neutrino oscillation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will require a new high intensity beam-based neutrino oscillation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in which neutrino beams are generated using new and highly challenging concept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Design Study will review all three currently accepted methods of realizing this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(the so-called neutrino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uper-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Beta 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Neutrino Factorie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)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It includes a detailed study of the key technical challenges of the accelerator facilities, of the detector options necessary to measure the neutrino oscillation parameters and a comparison of the physics reach of these facilitie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design study will also perform a cost assessment that, coupled with the physics performance, will permit the European research authorities to make a timely decision on the lay-out and construction of the future European neutrino oscillation facility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F32-EFD1-4A3E-89DE-D7A84AE357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ino Faciliti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382560" y="8287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6040" y="906480"/>
            <a:ext cx="3754440" cy="2319480"/>
            <a:chOff x="176040" y="906480"/>
            <a:chExt cx="3754440" cy="2319480"/>
          </a:xfrm>
        </p:grpSpPr>
        <p:sp>
          <p:nvSpPr>
            <p:cNvPr id="114" name=""/>
            <p:cNvSpPr/>
            <p:nvPr/>
          </p:nvSpPr>
          <p:spPr>
            <a:xfrm flipV="1">
              <a:off x="3016080" y="1717560"/>
              <a:ext cx="7682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76040" y="2079360"/>
              <a:ext cx="284004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2960" y="1168200"/>
              <a:ext cx="587520" cy="58752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13920" y="11653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9320" y="906480"/>
              <a:ext cx="175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H- linac 2.2 (3.5)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41720" y="203184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160" y="3035160"/>
              <a:ext cx="19666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~300 MeV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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258588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tu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3560" y="118728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2960" y="1730520"/>
              <a:ext cx="707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rn 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collecto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7440" y="1257120"/>
              <a:ext cx="81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imes New Roman"/>
                </a:rPr>
                <a:t>proton dri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388000">
              <a:off x="1542960" y="2401560"/>
              <a:ext cx="70164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3520" y="2303280"/>
              <a:ext cx="97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had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2800" y="2336760"/>
              <a:ext cx="6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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080" y="17701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9520" y="3970440"/>
            <a:ext cx="4519800" cy="2627280"/>
            <a:chOff x="209520" y="3970440"/>
            <a:chExt cx="4519800" cy="2627280"/>
          </a:xfrm>
        </p:grpSpPr>
        <p:sp>
          <p:nvSpPr>
            <p:cNvPr id="138" name=""/>
            <p:cNvSpPr/>
            <p:nvPr/>
          </p:nvSpPr>
          <p:spPr>
            <a:xfrm>
              <a:off x="1055160" y="5584320"/>
              <a:ext cx="101880" cy="14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9920" y="5587200"/>
              <a:ext cx="101880" cy="149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fa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082880" y="6113160"/>
              <a:ext cx="29880" cy="9756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920" y="4452840"/>
              <a:ext cx="448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Pro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8480" y="5100120"/>
              <a:ext cx="786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ol 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 ion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96360" y="4291560"/>
              <a:ext cx="698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2240" y="5104800"/>
              <a:ext cx="54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 = 5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7280" y="531324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=688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1000" y="62226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480" y="411840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503"/>
                  </a:solidFill>
                  <a:latin typeface="Times New Roman"/>
                </a:rPr>
                <a:t>EURI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1960" y="3970440"/>
              <a:ext cx="146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isting at C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6600" y="561240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w RF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9520" y="4051440"/>
              <a:ext cx="1143360" cy="2510280"/>
            </a:xfrm>
            <a:custGeom>
              <a:avLst/>
              <a:gdLst/>
              <a:ahLst/>
              <a:rect l="l" t="t" r="r" b="b"/>
              <a:pathLst>
                <a:path w="1194" h="2620">
                  <a:moveTo>
                    <a:pt x="1194" y="2382"/>
                  </a:moveTo>
                  <a:lnTo>
                    <a:pt x="1194" y="2382"/>
                  </a:lnTo>
                  <a:lnTo>
                    <a:pt x="1194" y="2406"/>
                  </a:lnTo>
                  <a:lnTo>
                    <a:pt x="1192" y="2430"/>
                  </a:lnTo>
                  <a:lnTo>
                    <a:pt x="1186" y="2452"/>
                  </a:lnTo>
                  <a:lnTo>
                    <a:pt x="1182" y="2474"/>
                  </a:lnTo>
                  <a:lnTo>
                    <a:pt x="1174" y="2496"/>
                  </a:lnTo>
                  <a:lnTo>
                    <a:pt x="1166" y="2514"/>
                  </a:lnTo>
                  <a:lnTo>
                    <a:pt x="1156" y="2534"/>
                  </a:lnTo>
                  <a:lnTo>
                    <a:pt x="1146" y="2550"/>
                  </a:lnTo>
                  <a:lnTo>
                    <a:pt x="1134" y="2566"/>
                  </a:lnTo>
                  <a:lnTo>
                    <a:pt x="1120" y="2580"/>
                  </a:lnTo>
                  <a:lnTo>
                    <a:pt x="1106" y="2592"/>
                  </a:lnTo>
                  <a:lnTo>
                    <a:pt x="1092" y="2602"/>
                  </a:lnTo>
                  <a:lnTo>
                    <a:pt x="1076" y="2610"/>
                  </a:lnTo>
                  <a:lnTo>
                    <a:pt x="1060" y="2616"/>
                  </a:lnTo>
                  <a:lnTo>
                    <a:pt x="1044" y="2620"/>
                  </a:lnTo>
                  <a:lnTo>
                    <a:pt x="1028" y="2620"/>
                  </a:lnTo>
                  <a:lnTo>
                    <a:pt x="168" y="2620"/>
                  </a:lnTo>
                  <a:lnTo>
                    <a:pt x="168" y="2620"/>
                  </a:lnTo>
                  <a:lnTo>
                    <a:pt x="150" y="2620"/>
                  </a:lnTo>
                  <a:lnTo>
                    <a:pt x="134" y="2616"/>
                  </a:lnTo>
                  <a:lnTo>
                    <a:pt x="118" y="2610"/>
                  </a:lnTo>
                  <a:lnTo>
                    <a:pt x="102" y="2602"/>
                  </a:lnTo>
                  <a:lnTo>
                    <a:pt x="88" y="2592"/>
                  </a:lnTo>
                  <a:lnTo>
                    <a:pt x="74" y="2580"/>
                  </a:lnTo>
                  <a:lnTo>
                    <a:pt x="60" y="2566"/>
                  </a:lnTo>
                  <a:lnTo>
                    <a:pt x="50" y="2550"/>
                  </a:lnTo>
                  <a:lnTo>
                    <a:pt x="38" y="2534"/>
                  </a:lnTo>
                  <a:lnTo>
                    <a:pt x="28" y="2514"/>
                  </a:lnTo>
                  <a:lnTo>
                    <a:pt x="20" y="2496"/>
                  </a:lnTo>
                  <a:lnTo>
                    <a:pt x="14" y="2474"/>
                  </a:lnTo>
                  <a:lnTo>
                    <a:pt x="8" y="2452"/>
                  </a:lnTo>
                  <a:lnTo>
                    <a:pt x="4" y="2430"/>
                  </a:lnTo>
                  <a:lnTo>
                    <a:pt x="0" y="2406"/>
                  </a:lnTo>
                  <a:lnTo>
                    <a:pt x="0" y="2382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14"/>
                  </a:lnTo>
                  <a:lnTo>
                    <a:pt x="4" y="190"/>
                  </a:lnTo>
                  <a:lnTo>
                    <a:pt x="8" y="168"/>
                  </a:lnTo>
                  <a:lnTo>
                    <a:pt x="14" y="146"/>
                  </a:lnTo>
                  <a:lnTo>
                    <a:pt x="20" y="124"/>
                  </a:lnTo>
                  <a:lnTo>
                    <a:pt x="28" y="104"/>
                  </a:lnTo>
                  <a:lnTo>
                    <a:pt x="38" y="86"/>
                  </a:lnTo>
                  <a:lnTo>
                    <a:pt x="50" y="70"/>
                  </a:lnTo>
                  <a:lnTo>
                    <a:pt x="60" y="54"/>
                  </a:lnTo>
                  <a:lnTo>
                    <a:pt x="74" y="40"/>
                  </a:lnTo>
                  <a:lnTo>
                    <a:pt x="88" y="28"/>
                  </a:lnTo>
                  <a:lnTo>
                    <a:pt x="102" y="18"/>
                  </a:lnTo>
                  <a:lnTo>
                    <a:pt x="118" y="10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028" y="0"/>
                  </a:lnTo>
                  <a:lnTo>
                    <a:pt x="1028" y="0"/>
                  </a:lnTo>
                  <a:lnTo>
                    <a:pt x="1044" y="0"/>
                  </a:lnTo>
                  <a:lnTo>
                    <a:pt x="1060" y="4"/>
                  </a:lnTo>
                  <a:lnTo>
                    <a:pt x="1076" y="10"/>
                  </a:lnTo>
                  <a:lnTo>
                    <a:pt x="1092" y="18"/>
                  </a:lnTo>
                  <a:lnTo>
                    <a:pt x="1106" y="28"/>
                  </a:lnTo>
                  <a:lnTo>
                    <a:pt x="1120" y="40"/>
                  </a:lnTo>
                  <a:lnTo>
                    <a:pt x="1134" y="54"/>
                  </a:lnTo>
                  <a:lnTo>
                    <a:pt x="1146" y="70"/>
                  </a:lnTo>
                  <a:lnTo>
                    <a:pt x="1156" y="86"/>
                  </a:lnTo>
                  <a:lnTo>
                    <a:pt x="1166" y="104"/>
                  </a:lnTo>
                  <a:lnTo>
                    <a:pt x="1174" y="124"/>
                  </a:lnTo>
                  <a:lnTo>
                    <a:pt x="1182" y="146"/>
                  </a:lnTo>
                  <a:lnTo>
                    <a:pt x="1186" y="168"/>
                  </a:lnTo>
                  <a:lnTo>
                    <a:pt x="1192" y="190"/>
                  </a:lnTo>
                  <a:lnTo>
                    <a:pt x="1194" y="214"/>
                  </a:lnTo>
                  <a:lnTo>
                    <a:pt x="1194" y="238"/>
                  </a:lnTo>
                  <a:lnTo>
                    <a:pt x="1194" y="2382"/>
                  </a:lnTo>
                  <a:close/>
                </a:path>
              </a:pathLst>
            </a:custGeom>
            <a:noFill/>
            <a:ln w="25560">
              <a:solidFill>
                <a:srgbClr val="ff57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14200" y="4213080"/>
              <a:ext cx="1080" cy="960840"/>
            </a:xfrm>
            <a:custGeom>
              <a:avLst/>
              <a:gdLst/>
              <a:ahLst/>
              <a:rect l="l" t="t" r="r" b="b"/>
              <a:pathLst>
                <a:path w="0" h="1004">
                  <a:moveTo>
                    <a:pt x="0" y="0"/>
                  </a:move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8520" y="5189040"/>
              <a:ext cx="168840" cy="313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3120" y="5510520"/>
              <a:ext cx="1080" cy="79920"/>
            </a:xfrm>
            <a:custGeom>
              <a:avLst/>
              <a:gdLst/>
              <a:ahLst/>
              <a:rect l="l" t="t" r="r" b="b"/>
              <a:pathLst>
                <a:path w="0" h="82">
                  <a:moveTo>
                    <a:pt x="0" y="0"/>
                  </a:move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8880" y="5735520"/>
              <a:ext cx="1440" cy="87120"/>
            </a:xfrm>
            <a:custGeom>
              <a:avLst/>
              <a:gdLst/>
              <a:ahLst/>
              <a:rect l="l" t="t" r="r" b="b"/>
              <a:pathLst>
                <a:path w="0" h="92">
                  <a:moveTo>
                    <a:pt x="0" y="0"/>
                  </a:move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9920" y="5825880"/>
              <a:ext cx="94680" cy="282600"/>
            </a:xfrm>
            <a:prstGeom prst="rect">
              <a:avLst/>
            </a:prstGeom>
            <a:noFill/>
            <a:ln w="25560">
              <a:solidFill>
                <a:srgbClr val="f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83240" y="6367680"/>
              <a:ext cx="888840" cy="3384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5600" y="514908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0280" y="4233960"/>
              <a:ext cx="2273760" cy="2222640"/>
            </a:xfrm>
            <a:custGeom>
              <a:avLst/>
              <a:gdLst/>
              <a:ahLst/>
              <a:rect l="l" t="t" r="r" b="b"/>
              <a:pathLst>
                <a:path w="2374" h="2322">
                  <a:moveTo>
                    <a:pt x="2374" y="2144"/>
                  </a:moveTo>
                  <a:lnTo>
                    <a:pt x="2374" y="2144"/>
                  </a:lnTo>
                  <a:lnTo>
                    <a:pt x="2374" y="2176"/>
                  </a:lnTo>
                  <a:lnTo>
                    <a:pt x="2368" y="2208"/>
                  </a:lnTo>
                  <a:lnTo>
                    <a:pt x="2360" y="2238"/>
                  </a:lnTo>
                  <a:lnTo>
                    <a:pt x="2354" y="2252"/>
                  </a:lnTo>
                  <a:lnTo>
                    <a:pt x="2348" y="2266"/>
                  </a:lnTo>
                  <a:lnTo>
                    <a:pt x="2338" y="2278"/>
                  </a:lnTo>
                  <a:lnTo>
                    <a:pt x="2330" y="2288"/>
                  </a:lnTo>
                  <a:lnTo>
                    <a:pt x="2320" y="2298"/>
                  </a:lnTo>
                  <a:lnTo>
                    <a:pt x="2308" y="2306"/>
                  </a:lnTo>
                  <a:lnTo>
                    <a:pt x="2294" y="2312"/>
                  </a:lnTo>
                  <a:lnTo>
                    <a:pt x="2280" y="2318"/>
                  </a:lnTo>
                  <a:lnTo>
                    <a:pt x="2266" y="2320"/>
                  </a:lnTo>
                  <a:lnTo>
                    <a:pt x="2248" y="2322"/>
                  </a:lnTo>
                  <a:lnTo>
                    <a:pt x="168" y="2322"/>
                  </a:lnTo>
                  <a:lnTo>
                    <a:pt x="168" y="2322"/>
                  </a:lnTo>
                  <a:lnTo>
                    <a:pt x="150" y="2320"/>
                  </a:lnTo>
                  <a:lnTo>
                    <a:pt x="134" y="2318"/>
                  </a:lnTo>
                  <a:lnTo>
                    <a:pt x="118" y="2314"/>
                  </a:lnTo>
                  <a:lnTo>
                    <a:pt x="102" y="2308"/>
                  </a:lnTo>
                  <a:lnTo>
                    <a:pt x="88" y="2300"/>
                  </a:lnTo>
                  <a:lnTo>
                    <a:pt x="74" y="2290"/>
                  </a:lnTo>
                  <a:lnTo>
                    <a:pt x="62" y="2280"/>
                  </a:lnTo>
                  <a:lnTo>
                    <a:pt x="50" y="2268"/>
                  </a:lnTo>
                  <a:lnTo>
                    <a:pt x="38" y="2254"/>
                  </a:lnTo>
                  <a:lnTo>
                    <a:pt x="30" y="2240"/>
                  </a:lnTo>
                  <a:lnTo>
                    <a:pt x="20" y="2226"/>
                  </a:lnTo>
                  <a:lnTo>
                    <a:pt x="14" y="2210"/>
                  </a:lnTo>
                  <a:lnTo>
                    <a:pt x="8" y="2192"/>
                  </a:lnTo>
                  <a:lnTo>
                    <a:pt x="4" y="2176"/>
                  </a:lnTo>
                  <a:lnTo>
                    <a:pt x="2" y="2156"/>
                  </a:lnTo>
                  <a:lnTo>
                    <a:pt x="0" y="2138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64"/>
                  </a:lnTo>
                  <a:lnTo>
                    <a:pt x="4" y="146"/>
                  </a:lnTo>
                  <a:lnTo>
                    <a:pt x="8" y="128"/>
                  </a:lnTo>
                  <a:lnTo>
                    <a:pt x="14" y="112"/>
                  </a:lnTo>
                  <a:lnTo>
                    <a:pt x="20" y="96"/>
                  </a:lnTo>
                  <a:lnTo>
                    <a:pt x="30" y="80"/>
                  </a:lnTo>
                  <a:lnTo>
                    <a:pt x="38" y="66"/>
                  </a:lnTo>
                  <a:lnTo>
                    <a:pt x="50" y="54"/>
                  </a:lnTo>
                  <a:lnTo>
                    <a:pt x="62" y="42"/>
                  </a:lnTo>
                  <a:lnTo>
                    <a:pt x="74" y="30"/>
                  </a:lnTo>
                  <a:lnTo>
                    <a:pt x="88" y="22"/>
                  </a:lnTo>
                  <a:lnTo>
                    <a:pt x="102" y="14"/>
                  </a:lnTo>
                  <a:lnTo>
                    <a:pt x="118" y="8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2248" y="0"/>
                  </a:lnTo>
                  <a:lnTo>
                    <a:pt x="2248" y="0"/>
                  </a:lnTo>
                  <a:lnTo>
                    <a:pt x="2266" y="0"/>
                  </a:lnTo>
                  <a:lnTo>
                    <a:pt x="2280" y="2"/>
                  </a:lnTo>
                  <a:lnTo>
                    <a:pt x="2294" y="6"/>
                  </a:lnTo>
                  <a:lnTo>
                    <a:pt x="2308" y="12"/>
                  </a:lnTo>
                  <a:lnTo>
                    <a:pt x="2320" y="20"/>
                  </a:lnTo>
                  <a:lnTo>
                    <a:pt x="2330" y="28"/>
                  </a:lnTo>
                  <a:lnTo>
                    <a:pt x="2338" y="38"/>
                  </a:lnTo>
                  <a:lnTo>
                    <a:pt x="2348" y="50"/>
                  </a:lnTo>
                  <a:lnTo>
                    <a:pt x="2354" y="64"/>
                  </a:lnTo>
                  <a:lnTo>
                    <a:pt x="2360" y="78"/>
                  </a:lnTo>
                  <a:lnTo>
                    <a:pt x="2364" y="94"/>
                  </a:lnTo>
                  <a:lnTo>
                    <a:pt x="2368" y="110"/>
                  </a:lnTo>
                  <a:lnTo>
                    <a:pt x="2374" y="146"/>
                  </a:lnTo>
                  <a:lnTo>
                    <a:pt x="2374" y="188"/>
                  </a:lnTo>
                  <a:lnTo>
                    <a:pt x="2374" y="2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9880" y="4288680"/>
              <a:ext cx="1847160" cy="1847880"/>
            </a:xfrm>
            <a:custGeom>
              <a:avLst/>
              <a:gdLst/>
              <a:ahLst/>
              <a:rect l="l" t="t" r="r" b="b"/>
              <a:pathLst>
                <a:path w="1930" h="1930">
                  <a:moveTo>
                    <a:pt x="1930" y="964"/>
                  </a:moveTo>
                  <a:lnTo>
                    <a:pt x="1930" y="964"/>
                  </a:lnTo>
                  <a:lnTo>
                    <a:pt x="1928" y="916"/>
                  </a:lnTo>
                  <a:lnTo>
                    <a:pt x="1924" y="866"/>
                  </a:lnTo>
                  <a:lnTo>
                    <a:pt x="1918" y="818"/>
                  </a:lnTo>
                  <a:lnTo>
                    <a:pt x="1910" y="770"/>
                  </a:lnTo>
                  <a:lnTo>
                    <a:pt x="1900" y="724"/>
                  </a:lnTo>
                  <a:lnTo>
                    <a:pt x="1886" y="678"/>
                  </a:lnTo>
                  <a:lnTo>
                    <a:pt x="1870" y="634"/>
                  </a:lnTo>
                  <a:lnTo>
                    <a:pt x="1854" y="590"/>
                  </a:lnTo>
                  <a:lnTo>
                    <a:pt x="1834" y="546"/>
                  </a:lnTo>
                  <a:lnTo>
                    <a:pt x="1814" y="504"/>
                  </a:lnTo>
                  <a:lnTo>
                    <a:pt x="1790" y="464"/>
                  </a:lnTo>
                  <a:lnTo>
                    <a:pt x="1764" y="426"/>
                  </a:lnTo>
                  <a:lnTo>
                    <a:pt x="1738" y="388"/>
                  </a:lnTo>
                  <a:lnTo>
                    <a:pt x="1710" y="352"/>
                  </a:lnTo>
                  <a:lnTo>
                    <a:pt x="1678" y="316"/>
                  </a:lnTo>
                  <a:lnTo>
                    <a:pt x="1646" y="282"/>
                  </a:lnTo>
                  <a:lnTo>
                    <a:pt x="1614" y="250"/>
                  </a:lnTo>
                  <a:lnTo>
                    <a:pt x="1578" y="220"/>
                  </a:lnTo>
                  <a:lnTo>
                    <a:pt x="1542" y="192"/>
                  </a:lnTo>
                  <a:lnTo>
                    <a:pt x="1504" y="164"/>
                  </a:lnTo>
                  <a:lnTo>
                    <a:pt x="1464" y="140"/>
                  </a:lnTo>
                  <a:lnTo>
                    <a:pt x="1424" y="116"/>
                  </a:lnTo>
                  <a:lnTo>
                    <a:pt x="1382" y="96"/>
                  </a:lnTo>
                  <a:lnTo>
                    <a:pt x="1340" y="76"/>
                  </a:lnTo>
                  <a:lnTo>
                    <a:pt x="1296" y="58"/>
                  </a:lnTo>
                  <a:lnTo>
                    <a:pt x="1252" y="44"/>
                  </a:lnTo>
                  <a:lnTo>
                    <a:pt x="1206" y="30"/>
                  </a:lnTo>
                  <a:lnTo>
                    <a:pt x="1160" y="20"/>
                  </a:lnTo>
                  <a:lnTo>
                    <a:pt x="1112" y="12"/>
                  </a:lnTo>
                  <a:lnTo>
                    <a:pt x="1064" y="6"/>
                  </a:lnTo>
                  <a:lnTo>
                    <a:pt x="1014" y="2"/>
                  </a:lnTo>
                  <a:lnTo>
                    <a:pt x="964" y="0"/>
                  </a:lnTo>
                  <a:lnTo>
                    <a:pt x="964" y="0"/>
                  </a:lnTo>
                  <a:lnTo>
                    <a:pt x="916" y="2"/>
                  </a:lnTo>
                  <a:lnTo>
                    <a:pt x="866" y="6"/>
                  </a:lnTo>
                  <a:lnTo>
                    <a:pt x="818" y="12"/>
                  </a:lnTo>
                  <a:lnTo>
                    <a:pt x="770" y="20"/>
                  </a:lnTo>
                  <a:lnTo>
                    <a:pt x="724" y="30"/>
                  </a:lnTo>
                  <a:lnTo>
                    <a:pt x="678" y="44"/>
                  </a:lnTo>
                  <a:lnTo>
                    <a:pt x="634" y="58"/>
                  </a:lnTo>
                  <a:lnTo>
                    <a:pt x="590" y="76"/>
                  </a:lnTo>
                  <a:lnTo>
                    <a:pt x="546" y="96"/>
                  </a:lnTo>
                  <a:lnTo>
                    <a:pt x="504" y="116"/>
                  </a:lnTo>
                  <a:lnTo>
                    <a:pt x="464" y="140"/>
                  </a:lnTo>
                  <a:lnTo>
                    <a:pt x="426" y="164"/>
                  </a:lnTo>
                  <a:lnTo>
                    <a:pt x="388" y="192"/>
                  </a:lnTo>
                  <a:lnTo>
                    <a:pt x="352" y="220"/>
                  </a:lnTo>
                  <a:lnTo>
                    <a:pt x="316" y="250"/>
                  </a:lnTo>
                  <a:lnTo>
                    <a:pt x="282" y="282"/>
                  </a:lnTo>
                  <a:lnTo>
                    <a:pt x="250" y="316"/>
                  </a:lnTo>
                  <a:lnTo>
                    <a:pt x="220" y="352"/>
                  </a:lnTo>
                  <a:lnTo>
                    <a:pt x="192" y="388"/>
                  </a:lnTo>
                  <a:lnTo>
                    <a:pt x="164" y="426"/>
                  </a:lnTo>
                  <a:lnTo>
                    <a:pt x="140" y="464"/>
                  </a:lnTo>
                  <a:lnTo>
                    <a:pt x="116" y="504"/>
                  </a:lnTo>
                  <a:lnTo>
                    <a:pt x="96" y="546"/>
                  </a:lnTo>
                  <a:lnTo>
                    <a:pt x="76" y="590"/>
                  </a:lnTo>
                  <a:lnTo>
                    <a:pt x="58" y="634"/>
                  </a:lnTo>
                  <a:lnTo>
                    <a:pt x="44" y="678"/>
                  </a:lnTo>
                  <a:lnTo>
                    <a:pt x="30" y="724"/>
                  </a:lnTo>
                  <a:lnTo>
                    <a:pt x="20" y="770"/>
                  </a:lnTo>
                  <a:lnTo>
                    <a:pt x="12" y="818"/>
                  </a:lnTo>
                  <a:lnTo>
                    <a:pt x="6" y="866"/>
                  </a:lnTo>
                  <a:lnTo>
                    <a:pt x="2" y="916"/>
                  </a:lnTo>
                  <a:lnTo>
                    <a:pt x="0" y="964"/>
                  </a:lnTo>
                  <a:lnTo>
                    <a:pt x="0" y="964"/>
                  </a:lnTo>
                  <a:lnTo>
                    <a:pt x="2" y="1014"/>
                  </a:lnTo>
                  <a:lnTo>
                    <a:pt x="6" y="1064"/>
                  </a:lnTo>
                  <a:lnTo>
                    <a:pt x="12" y="1112"/>
                  </a:lnTo>
                  <a:lnTo>
                    <a:pt x="20" y="1160"/>
                  </a:lnTo>
                  <a:lnTo>
                    <a:pt x="30" y="1206"/>
                  </a:lnTo>
                  <a:lnTo>
                    <a:pt x="44" y="1252"/>
                  </a:lnTo>
                  <a:lnTo>
                    <a:pt x="58" y="1296"/>
                  </a:lnTo>
                  <a:lnTo>
                    <a:pt x="76" y="1340"/>
                  </a:lnTo>
                  <a:lnTo>
                    <a:pt x="96" y="1384"/>
                  </a:lnTo>
                  <a:lnTo>
                    <a:pt x="116" y="1424"/>
                  </a:lnTo>
                  <a:lnTo>
                    <a:pt x="140" y="1466"/>
                  </a:lnTo>
                  <a:lnTo>
                    <a:pt x="164" y="1504"/>
                  </a:lnTo>
                  <a:lnTo>
                    <a:pt x="192" y="1542"/>
                  </a:lnTo>
                  <a:lnTo>
                    <a:pt x="220" y="1578"/>
                  </a:lnTo>
                  <a:lnTo>
                    <a:pt x="250" y="1614"/>
                  </a:lnTo>
                  <a:lnTo>
                    <a:pt x="282" y="1646"/>
                  </a:lnTo>
                  <a:lnTo>
                    <a:pt x="316" y="1678"/>
                  </a:lnTo>
                  <a:lnTo>
                    <a:pt x="352" y="1710"/>
                  </a:lnTo>
                  <a:lnTo>
                    <a:pt x="388" y="1738"/>
                  </a:lnTo>
                  <a:lnTo>
                    <a:pt x="426" y="1764"/>
                  </a:lnTo>
                  <a:lnTo>
                    <a:pt x="464" y="1790"/>
                  </a:lnTo>
                  <a:lnTo>
                    <a:pt x="504" y="1814"/>
                  </a:lnTo>
                  <a:lnTo>
                    <a:pt x="546" y="1834"/>
                  </a:lnTo>
                  <a:lnTo>
                    <a:pt x="590" y="1854"/>
                  </a:lnTo>
                  <a:lnTo>
                    <a:pt x="634" y="1870"/>
                  </a:lnTo>
                  <a:lnTo>
                    <a:pt x="678" y="1886"/>
                  </a:lnTo>
                  <a:lnTo>
                    <a:pt x="724" y="1900"/>
                  </a:lnTo>
                  <a:lnTo>
                    <a:pt x="770" y="1910"/>
                  </a:lnTo>
                  <a:lnTo>
                    <a:pt x="818" y="1918"/>
                  </a:lnTo>
                  <a:lnTo>
                    <a:pt x="866" y="1924"/>
                  </a:lnTo>
                  <a:lnTo>
                    <a:pt x="916" y="1928"/>
                  </a:lnTo>
                  <a:lnTo>
                    <a:pt x="964" y="1930"/>
                  </a:lnTo>
                  <a:lnTo>
                    <a:pt x="964" y="1930"/>
                  </a:lnTo>
                  <a:lnTo>
                    <a:pt x="1014" y="1928"/>
                  </a:lnTo>
                  <a:lnTo>
                    <a:pt x="1064" y="1924"/>
                  </a:lnTo>
                  <a:lnTo>
                    <a:pt x="1112" y="1918"/>
                  </a:lnTo>
                  <a:lnTo>
                    <a:pt x="1160" y="1910"/>
                  </a:lnTo>
                  <a:lnTo>
                    <a:pt x="1206" y="1900"/>
                  </a:lnTo>
                  <a:lnTo>
                    <a:pt x="1252" y="1886"/>
                  </a:lnTo>
                  <a:lnTo>
                    <a:pt x="1296" y="1870"/>
                  </a:lnTo>
                  <a:lnTo>
                    <a:pt x="1340" y="1854"/>
                  </a:lnTo>
                  <a:lnTo>
                    <a:pt x="1382" y="1834"/>
                  </a:lnTo>
                  <a:lnTo>
                    <a:pt x="1424" y="1814"/>
                  </a:lnTo>
                  <a:lnTo>
                    <a:pt x="1464" y="1790"/>
                  </a:lnTo>
                  <a:lnTo>
                    <a:pt x="1504" y="1764"/>
                  </a:lnTo>
                  <a:lnTo>
                    <a:pt x="1542" y="1738"/>
                  </a:lnTo>
                  <a:lnTo>
                    <a:pt x="1578" y="1710"/>
                  </a:lnTo>
                  <a:lnTo>
                    <a:pt x="1614" y="1678"/>
                  </a:lnTo>
                  <a:lnTo>
                    <a:pt x="1646" y="1646"/>
                  </a:lnTo>
                  <a:lnTo>
                    <a:pt x="1678" y="1614"/>
                  </a:lnTo>
                  <a:lnTo>
                    <a:pt x="1710" y="1578"/>
                  </a:lnTo>
                  <a:lnTo>
                    <a:pt x="1738" y="1542"/>
                  </a:lnTo>
                  <a:lnTo>
                    <a:pt x="1764" y="1504"/>
                  </a:lnTo>
                  <a:lnTo>
                    <a:pt x="1790" y="1466"/>
                  </a:lnTo>
                  <a:lnTo>
                    <a:pt x="1814" y="1424"/>
                  </a:lnTo>
                  <a:lnTo>
                    <a:pt x="1834" y="1384"/>
                  </a:lnTo>
                  <a:lnTo>
                    <a:pt x="1854" y="1340"/>
                  </a:lnTo>
                  <a:lnTo>
                    <a:pt x="1870" y="1296"/>
                  </a:lnTo>
                  <a:lnTo>
                    <a:pt x="1886" y="1252"/>
                  </a:lnTo>
                  <a:lnTo>
                    <a:pt x="1900" y="1206"/>
                  </a:lnTo>
                  <a:lnTo>
                    <a:pt x="1910" y="1160"/>
                  </a:lnTo>
                  <a:lnTo>
                    <a:pt x="1918" y="1112"/>
                  </a:lnTo>
                  <a:lnTo>
                    <a:pt x="1924" y="1064"/>
                  </a:lnTo>
                  <a:lnTo>
                    <a:pt x="1928" y="1014"/>
                  </a:lnTo>
                  <a:lnTo>
                    <a:pt x="1930" y="964"/>
                  </a:lnTo>
                  <a:lnTo>
                    <a:pt x="1930" y="96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920240" y="5617080"/>
              <a:ext cx="23400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9920" y="6042240"/>
              <a:ext cx="365760" cy="359640"/>
            </a:xfrm>
            <a:custGeom>
              <a:avLst/>
              <a:gdLst/>
              <a:ahLst/>
              <a:rect l="l" t="t" r="r" b="b"/>
              <a:pathLst>
                <a:path w="382" h="376">
                  <a:moveTo>
                    <a:pt x="382" y="188"/>
                  </a:moveTo>
                  <a:lnTo>
                    <a:pt x="382" y="188"/>
                  </a:lnTo>
                  <a:lnTo>
                    <a:pt x="382" y="168"/>
                  </a:lnTo>
                  <a:lnTo>
                    <a:pt x="378" y="150"/>
                  </a:lnTo>
                  <a:lnTo>
                    <a:pt x="374" y="132"/>
                  </a:lnTo>
                  <a:lnTo>
                    <a:pt x="368" y="114"/>
                  </a:lnTo>
                  <a:lnTo>
                    <a:pt x="358" y="98"/>
                  </a:lnTo>
                  <a:lnTo>
                    <a:pt x="350" y="82"/>
                  </a:lnTo>
                  <a:lnTo>
                    <a:pt x="338" y="68"/>
                  </a:lnTo>
                  <a:lnTo>
                    <a:pt x="326" y="54"/>
                  </a:lnTo>
                  <a:lnTo>
                    <a:pt x="312" y="42"/>
                  </a:lnTo>
                  <a:lnTo>
                    <a:pt x="298" y="32"/>
                  </a:lnTo>
                  <a:lnTo>
                    <a:pt x="282" y="22"/>
                  </a:lnTo>
                  <a:lnTo>
                    <a:pt x="266" y="14"/>
                  </a:lnTo>
                  <a:lnTo>
                    <a:pt x="248" y="8"/>
                  </a:lnTo>
                  <a:lnTo>
                    <a:pt x="230" y="4"/>
                  </a:lnTo>
                  <a:lnTo>
                    <a:pt x="21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2" y="4"/>
                  </a:lnTo>
                  <a:lnTo>
                    <a:pt x="134" y="8"/>
                  </a:lnTo>
                  <a:lnTo>
                    <a:pt x="116" y="14"/>
                  </a:lnTo>
                  <a:lnTo>
                    <a:pt x="100" y="22"/>
                  </a:lnTo>
                  <a:lnTo>
                    <a:pt x="84" y="32"/>
                  </a:lnTo>
                  <a:lnTo>
                    <a:pt x="68" y="42"/>
                  </a:lnTo>
                  <a:lnTo>
                    <a:pt x="56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8"/>
                  </a:lnTo>
                  <a:lnTo>
                    <a:pt x="14" y="114"/>
                  </a:lnTo>
                  <a:lnTo>
                    <a:pt x="8" y="132"/>
                  </a:lnTo>
                  <a:lnTo>
                    <a:pt x="4" y="150"/>
                  </a:lnTo>
                  <a:lnTo>
                    <a:pt x="0" y="168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206"/>
                  </a:lnTo>
                  <a:lnTo>
                    <a:pt x="4" y="226"/>
                  </a:lnTo>
                  <a:lnTo>
                    <a:pt x="8" y="244"/>
                  </a:lnTo>
                  <a:lnTo>
                    <a:pt x="14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2" y="306"/>
                  </a:lnTo>
                  <a:lnTo>
                    <a:pt x="56" y="320"/>
                  </a:lnTo>
                  <a:lnTo>
                    <a:pt x="68" y="332"/>
                  </a:lnTo>
                  <a:lnTo>
                    <a:pt x="84" y="344"/>
                  </a:lnTo>
                  <a:lnTo>
                    <a:pt x="100" y="352"/>
                  </a:lnTo>
                  <a:lnTo>
                    <a:pt x="116" y="360"/>
                  </a:lnTo>
                  <a:lnTo>
                    <a:pt x="134" y="366"/>
                  </a:lnTo>
                  <a:lnTo>
                    <a:pt x="152" y="372"/>
                  </a:lnTo>
                  <a:lnTo>
                    <a:pt x="172" y="374"/>
                  </a:lnTo>
                  <a:lnTo>
                    <a:pt x="190" y="376"/>
                  </a:lnTo>
                  <a:lnTo>
                    <a:pt x="190" y="376"/>
                  </a:lnTo>
                  <a:lnTo>
                    <a:pt x="210" y="374"/>
                  </a:lnTo>
                  <a:lnTo>
                    <a:pt x="230" y="372"/>
                  </a:lnTo>
                  <a:lnTo>
                    <a:pt x="248" y="366"/>
                  </a:lnTo>
                  <a:lnTo>
                    <a:pt x="266" y="360"/>
                  </a:lnTo>
                  <a:lnTo>
                    <a:pt x="282" y="352"/>
                  </a:lnTo>
                  <a:lnTo>
                    <a:pt x="298" y="344"/>
                  </a:lnTo>
                  <a:lnTo>
                    <a:pt x="312" y="332"/>
                  </a:lnTo>
                  <a:lnTo>
                    <a:pt x="326" y="320"/>
                  </a:lnTo>
                  <a:lnTo>
                    <a:pt x="338" y="306"/>
                  </a:lnTo>
                  <a:lnTo>
                    <a:pt x="350" y="292"/>
                  </a:lnTo>
                  <a:lnTo>
                    <a:pt x="358" y="276"/>
                  </a:lnTo>
                  <a:lnTo>
                    <a:pt x="368" y="260"/>
                  </a:lnTo>
                  <a:lnTo>
                    <a:pt x="374" y="244"/>
                  </a:lnTo>
                  <a:lnTo>
                    <a:pt x="378" y="226"/>
                  </a:lnTo>
                  <a:lnTo>
                    <a:pt x="382" y="206"/>
                  </a:lnTo>
                  <a:lnTo>
                    <a:pt x="382" y="188"/>
                  </a:lnTo>
                  <a:lnTo>
                    <a:pt x="382" y="18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6480" y="6120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8040" y="3971520"/>
              <a:ext cx="783720" cy="2351880"/>
            </a:xfrm>
            <a:custGeom>
              <a:avLst/>
              <a:gdLst/>
              <a:ahLst/>
              <a:rect l="l" t="t" r="r" b="b"/>
              <a:pathLst>
                <a:path w="818" h="2456">
                  <a:moveTo>
                    <a:pt x="0" y="2456"/>
                  </a:moveTo>
                  <a:lnTo>
                    <a:pt x="0" y="292"/>
                  </a:lnTo>
                  <a:lnTo>
                    <a:pt x="0" y="292"/>
                  </a:lnTo>
                  <a:lnTo>
                    <a:pt x="4" y="278"/>
                  </a:lnTo>
                  <a:lnTo>
                    <a:pt x="16" y="246"/>
                  </a:lnTo>
                  <a:lnTo>
                    <a:pt x="26" y="224"/>
                  </a:lnTo>
                  <a:lnTo>
                    <a:pt x="38" y="200"/>
                  </a:lnTo>
                  <a:lnTo>
                    <a:pt x="54" y="174"/>
                  </a:lnTo>
                  <a:lnTo>
                    <a:pt x="74" y="148"/>
                  </a:lnTo>
                  <a:lnTo>
                    <a:pt x="98" y="120"/>
                  </a:lnTo>
                  <a:lnTo>
                    <a:pt x="126" y="94"/>
                  </a:lnTo>
                  <a:lnTo>
                    <a:pt x="158" y="70"/>
                  </a:lnTo>
                  <a:lnTo>
                    <a:pt x="176" y="58"/>
                  </a:lnTo>
                  <a:lnTo>
                    <a:pt x="194" y="48"/>
                  </a:lnTo>
                  <a:lnTo>
                    <a:pt x="214" y="38"/>
                  </a:lnTo>
                  <a:lnTo>
                    <a:pt x="236" y="30"/>
                  </a:lnTo>
                  <a:lnTo>
                    <a:pt x="258" y="22"/>
                  </a:lnTo>
                  <a:lnTo>
                    <a:pt x="282" y="14"/>
                  </a:lnTo>
                  <a:lnTo>
                    <a:pt x="308" y="8"/>
                  </a:lnTo>
                  <a:lnTo>
                    <a:pt x="336" y="4"/>
                  </a:lnTo>
                  <a:lnTo>
                    <a:pt x="364" y="2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424" y="0"/>
                  </a:lnTo>
                  <a:lnTo>
                    <a:pt x="452" y="2"/>
                  </a:lnTo>
                  <a:lnTo>
                    <a:pt x="480" y="6"/>
                  </a:lnTo>
                  <a:lnTo>
                    <a:pt x="506" y="12"/>
                  </a:lnTo>
                  <a:lnTo>
                    <a:pt x="530" y="18"/>
                  </a:lnTo>
                  <a:lnTo>
                    <a:pt x="554" y="26"/>
                  </a:lnTo>
                  <a:lnTo>
                    <a:pt x="576" y="34"/>
                  </a:lnTo>
                  <a:lnTo>
                    <a:pt x="598" y="44"/>
                  </a:lnTo>
                  <a:lnTo>
                    <a:pt x="618" y="54"/>
                  </a:lnTo>
                  <a:lnTo>
                    <a:pt x="636" y="66"/>
                  </a:lnTo>
                  <a:lnTo>
                    <a:pt x="672" y="90"/>
                  </a:lnTo>
                  <a:lnTo>
                    <a:pt x="702" y="116"/>
                  </a:lnTo>
                  <a:lnTo>
                    <a:pt x="728" y="144"/>
                  </a:lnTo>
                  <a:lnTo>
                    <a:pt x="750" y="172"/>
                  </a:lnTo>
                  <a:lnTo>
                    <a:pt x="770" y="198"/>
                  </a:lnTo>
                  <a:lnTo>
                    <a:pt x="784" y="222"/>
                  </a:lnTo>
                  <a:lnTo>
                    <a:pt x="796" y="246"/>
                  </a:lnTo>
                  <a:lnTo>
                    <a:pt x="812" y="278"/>
                  </a:lnTo>
                  <a:lnTo>
                    <a:pt x="818" y="292"/>
                  </a:lnTo>
                  <a:lnTo>
                    <a:pt x="818" y="2456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38040" y="6317640"/>
              <a:ext cx="783720" cy="280080"/>
            </a:xfrm>
            <a:custGeom>
              <a:avLst/>
              <a:gdLst/>
              <a:ahLst/>
              <a:rect l="l" t="t" r="r" b="b"/>
              <a:pathLst>
                <a:path w="818" h="292">
                  <a:moveTo>
                    <a:pt x="0" y="0"/>
                  </a:moveTo>
                  <a:lnTo>
                    <a:pt x="0" y="0"/>
                  </a:lnTo>
                  <a:lnTo>
                    <a:pt x="4" y="12"/>
                  </a:lnTo>
                  <a:lnTo>
                    <a:pt x="16" y="46"/>
                  </a:lnTo>
                  <a:lnTo>
                    <a:pt x="26" y="66"/>
                  </a:lnTo>
                  <a:lnTo>
                    <a:pt x="38" y="92"/>
                  </a:lnTo>
                  <a:lnTo>
                    <a:pt x="54" y="116"/>
                  </a:lnTo>
                  <a:lnTo>
                    <a:pt x="74" y="144"/>
                  </a:lnTo>
                  <a:lnTo>
                    <a:pt x="98" y="170"/>
                  </a:lnTo>
                  <a:lnTo>
                    <a:pt x="126" y="196"/>
                  </a:lnTo>
                  <a:lnTo>
                    <a:pt x="158" y="222"/>
                  </a:lnTo>
                  <a:lnTo>
                    <a:pt x="176" y="232"/>
                  </a:lnTo>
                  <a:lnTo>
                    <a:pt x="194" y="244"/>
                  </a:lnTo>
                  <a:lnTo>
                    <a:pt x="214" y="254"/>
                  </a:lnTo>
                  <a:lnTo>
                    <a:pt x="236" y="262"/>
                  </a:lnTo>
                  <a:lnTo>
                    <a:pt x="258" y="270"/>
                  </a:lnTo>
                  <a:lnTo>
                    <a:pt x="282" y="278"/>
                  </a:lnTo>
                  <a:lnTo>
                    <a:pt x="308" y="282"/>
                  </a:lnTo>
                  <a:lnTo>
                    <a:pt x="336" y="288"/>
                  </a:lnTo>
                  <a:lnTo>
                    <a:pt x="364" y="290"/>
                  </a:lnTo>
                  <a:lnTo>
                    <a:pt x="394" y="292"/>
                  </a:lnTo>
                  <a:lnTo>
                    <a:pt x="394" y="292"/>
                  </a:lnTo>
                  <a:lnTo>
                    <a:pt x="424" y="290"/>
                  </a:lnTo>
                  <a:lnTo>
                    <a:pt x="452" y="288"/>
                  </a:lnTo>
                  <a:lnTo>
                    <a:pt x="480" y="286"/>
                  </a:lnTo>
                  <a:lnTo>
                    <a:pt x="506" y="280"/>
                  </a:lnTo>
                  <a:lnTo>
                    <a:pt x="530" y="274"/>
                  </a:lnTo>
                  <a:lnTo>
                    <a:pt x="554" y="266"/>
                  </a:lnTo>
                  <a:lnTo>
                    <a:pt x="576" y="258"/>
                  </a:lnTo>
                  <a:lnTo>
                    <a:pt x="598" y="248"/>
                  </a:lnTo>
                  <a:lnTo>
                    <a:pt x="618" y="238"/>
                  </a:lnTo>
                  <a:lnTo>
                    <a:pt x="636" y="226"/>
                  </a:lnTo>
                  <a:lnTo>
                    <a:pt x="672" y="202"/>
                  </a:lnTo>
                  <a:lnTo>
                    <a:pt x="702" y="176"/>
                  </a:lnTo>
                  <a:lnTo>
                    <a:pt x="728" y="148"/>
                  </a:lnTo>
                  <a:lnTo>
                    <a:pt x="750" y="120"/>
                  </a:lnTo>
                  <a:lnTo>
                    <a:pt x="770" y="94"/>
                  </a:lnTo>
                  <a:lnTo>
                    <a:pt x="784" y="68"/>
                  </a:lnTo>
                  <a:lnTo>
                    <a:pt x="796" y="46"/>
                  </a:lnTo>
                  <a:lnTo>
                    <a:pt x="812" y="14"/>
                  </a:lnTo>
                  <a:lnTo>
                    <a:pt x="818" y="0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9840" y="5070600"/>
              <a:ext cx="269280" cy="460440"/>
            </a:xfrm>
            <a:custGeom>
              <a:avLst/>
              <a:gdLst/>
              <a:ahLst/>
              <a:rect l="l" t="t" r="r" b="b"/>
              <a:pathLst>
                <a:path w="282" h="480">
                  <a:moveTo>
                    <a:pt x="0" y="0"/>
                  </a:moveTo>
                  <a:lnTo>
                    <a:pt x="0" y="0"/>
                  </a:lnTo>
                  <a:lnTo>
                    <a:pt x="14" y="42"/>
                  </a:lnTo>
                  <a:lnTo>
                    <a:pt x="30" y="82"/>
                  </a:lnTo>
                  <a:lnTo>
                    <a:pt x="50" y="130"/>
                  </a:lnTo>
                  <a:lnTo>
                    <a:pt x="62" y="152"/>
                  </a:lnTo>
                  <a:lnTo>
                    <a:pt x="74" y="174"/>
                  </a:lnTo>
                  <a:lnTo>
                    <a:pt x="88" y="196"/>
                  </a:lnTo>
                  <a:lnTo>
                    <a:pt x="100" y="214"/>
                  </a:lnTo>
                  <a:lnTo>
                    <a:pt x="114" y="228"/>
                  </a:lnTo>
                  <a:lnTo>
                    <a:pt x="130" y="240"/>
                  </a:lnTo>
                  <a:lnTo>
                    <a:pt x="136" y="244"/>
                  </a:lnTo>
                  <a:lnTo>
                    <a:pt x="144" y="246"/>
                  </a:lnTo>
                  <a:lnTo>
                    <a:pt x="150" y="246"/>
                  </a:lnTo>
                  <a:lnTo>
                    <a:pt x="158" y="246"/>
                  </a:lnTo>
                  <a:lnTo>
                    <a:pt x="158" y="246"/>
                  </a:lnTo>
                  <a:lnTo>
                    <a:pt x="166" y="246"/>
                  </a:lnTo>
                  <a:lnTo>
                    <a:pt x="172" y="246"/>
                  </a:lnTo>
                  <a:lnTo>
                    <a:pt x="178" y="248"/>
                  </a:lnTo>
                  <a:lnTo>
                    <a:pt x="186" y="252"/>
                  </a:lnTo>
                  <a:lnTo>
                    <a:pt x="198" y="262"/>
                  </a:lnTo>
                  <a:lnTo>
                    <a:pt x="210" y="276"/>
                  </a:lnTo>
                  <a:lnTo>
                    <a:pt x="220" y="294"/>
                  </a:lnTo>
                  <a:lnTo>
                    <a:pt x="232" y="314"/>
                  </a:lnTo>
                  <a:lnTo>
                    <a:pt x="240" y="334"/>
                  </a:lnTo>
                  <a:lnTo>
                    <a:pt x="248" y="358"/>
                  </a:lnTo>
                  <a:lnTo>
                    <a:pt x="264" y="402"/>
                  </a:lnTo>
                  <a:lnTo>
                    <a:pt x="274" y="442"/>
                  </a:lnTo>
                  <a:lnTo>
                    <a:pt x="282" y="480"/>
                  </a:lnTo>
                </a:path>
              </a:pathLst>
            </a:custGeom>
            <a:noFill/>
            <a:ln w="1260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640" y="5920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05120" y="750960"/>
            <a:ext cx="5310000" cy="4161240"/>
            <a:chOff x="3705120" y="750960"/>
            <a:chExt cx="5310000" cy="4161240"/>
          </a:xfrm>
        </p:grpSpPr>
        <p:sp>
          <p:nvSpPr>
            <p:cNvPr id="180" name=""/>
            <p:cNvSpPr/>
            <p:nvPr/>
          </p:nvSpPr>
          <p:spPr>
            <a:xfrm flipV="1">
              <a:off x="8285040" y="1390320"/>
              <a:ext cx="6134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419440" y="1679400"/>
              <a:ext cx="2865600" cy="9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43800" y="2665440"/>
              <a:ext cx="60552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62080" y="3042720"/>
              <a:ext cx="496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solidFill>
              <a:srgbClr val="ff7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6040" y="952200"/>
              <a:ext cx="469080" cy="46836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564320" y="949680"/>
              <a:ext cx="122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66480" y="4008240"/>
              <a:ext cx="2241720" cy="420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5360" y="3656160"/>
              <a:ext cx="10116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947120" y="4611600"/>
              <a:ext cx="240840" cy="25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51360" y="4008240"/>
              <a:ext cx="42840" cy="6804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20" y="8"/>
                  </a:lnTo>
                  <a:lnTo>
                    <a:pt x="26" y="14"/>
                  </a:lnTo>
                  <a:lnTo>
                    <a:pt x="30" y="20"/>
                  </a:lnTo>
                  <a:lnTo>
                    <a:pt x="34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4" y="46"/>
                  </a:lnTo>
                  <a:lnTo>
                    <a:pt x="30" y="5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1680" y="4636800"/>
              <a:ext cx="78480" cy="302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0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8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6" y="20"/>
                  </a:lnTo>
                  <a:lnTo>
                    <a:pt x="62" y="1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952520" y="4269240"/>
              <a:ext cx="11880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135040" y="4074120"/>
              <a:ext cx="656640" cy="59544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28320" y="3841200"/>
              <a:ext cx="55440" cy="608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" y="48"/>
                  </a:move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4" y="0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30840" y="3902040"/>
              <a:ext cx="12132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883760" y="3840840"/>
              <a:ext cx="872280" cy="16452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7040" y="2829960"/>
              <a:ext cx="930600" cy="324360"/>
            </a:xfrm>
            <a:custGeom>
              <a:avLst/>
              <a:gdLst/>
              <a:ahLst/>
              <a:rect l="l" t="t" r="r" b="b"/>
              <a:pathLst>
                <a:path w="734" h="256">
                  <a:moveTo>
                    <a:pt x="0" y="256"/>
                  </a:moveTo>
                  <a:lnTo>
                    <a:pt x="734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3f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47520">
              <a:solidFill>
                <a:srgbClr val="3f1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20240" y="3215160"/>
              <a:ext cx="205200" cy="443520"/>
            </a:xfrm>
            <a:custGeom>
              <a:avLst/>
              <a:gdLst/>
              <a:ahLst/>
              <a:rect l="l" t="t" r="r" b="b"/>
              <a:pathLst>
                <a:path w="162" h="350">
                  <a:moveTo>
                    <a:pt x="162" y="350"/>
                  </a:moveTo>
                  <a:lnTo>
                    <a:pt x="162" y="350"/>
                  </a:lnTo>
                  <a:lnTo>
                    <a:pt x="144" y="348"/>
                  </a:lnTo>
                  <a:lnTo>
                    <a:pt x="128" y="342"/>
                  </a:lnTo>
                  <a:lnTo>
                    <a:pt x="112" y="338"/>
                  </a:lnTo>
                  <a:lnTo>
                    <a:pt x="98" y="330"/>
                  </a:lnTo>
                  <a:lnTo>
                    <a:pt x="84" y="322"/>
                  </a:lnTo>
                  <a:lnTo>
                    <a:pt x="70" y="312"/>
                  </a:lnTo>
                  <a:lnTo>
                    <a:pt x="58" y="302"/>
                  </a:lnTo>
                  <a:lnTo>
                    <a:pt x="46" y="290"/>
                  </a:lnTo>
                  <a:lnTo>
                    <a:pt x="36" y="278"/>
                  </a:lnTo>
                  <a:lnTo>
                    <a:pt x="28" y="264"/>
                  </a:lnTo>
                  <a:lnTo>
                    <a:pt x="20" y="250"/>
                  </a:lnTo>
                  <a:lnTo>
                    <a:pt x="12" y="236"/>
                  </a:lnTo>
                  <a:lnTo>
                    <a:pt x="8" y="220"/>
                  </a:lnTo>
                  <a:lnTo>
                    <a:pt x="4" y="204"/>
                  </a:lnTo>
                  <a:lnTo>
                    <a:pt x="2" y="18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40"/>
                  </a:lnTo>
                  <a:lnTo>
                    <a:pt x="8" y="114"/>
                  </a:lnTo>
                  <a:lnTo>
                    <a:pt x="18" y="88"/>
                  </a:lnTo>
                  <a:lnTo>
                    <a:pt x="32" y="66"/>
                  </a:lnTo>
                  <a:lnTo>
                    <a:pt x="48" y="46"/>
                  </a:lnTo>
                  <a:lnTo>
                    <a:pt x="68" y="26"/>
                  </a:lnTo>
                  <a:lnTo>
                    <a:pt x="90" y="12"/>
                  </a:lnTo>
                  <a:lnTo>
                    <a:pt x="11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7800" y="234108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0" y="390"/>
                  </a:moveTo>
                  <a:lnTo>
                    <a:pt x="130" y="390"/>
                  </a:lnTo>
                  <a:lnTo>
                    <a:pt x="150" y="382"/>
                  </a:lnTo>
                  <a:lnTo>
                    <a:pt x="166" y="372"/>
                  </a:lnTo>
                  <a:lnTo>
                    <a:pt x="184" y="362"/>
                  </a:lnTo>
                  <a:lnTo>
                    <a:pt x="198" y="348"/>
                  </a:lnTo>
                  <a:lnTo>
                    <a:pt x="212" y="336"/>
                  </a:lnTo>
                  <a:lnTo>
                    <a:pt x="224" y="320"/>
                  </a:lnTo>
                  <a:lnTo>
                    <a:pt x="236" y="304"/>
                  </a:lnTo>
                  <a:lnTo>
                    <a:pt x="244" y="288"/>
                  </a:lnTo>
                  <a:lnTo>
                    <a:pt x="252" y="270"/>
                  </a:lnTo>
                  <a:lnTo>
                    <a:pt x="258" y="252"/>
                  </a:lnTo>
                  <a:lnTo>
                    <a:pt x="262" y="232"/>
                  </a:lnTo>
                  <a:lnTo>
                    <a:pt x="264" y="214"/>
                  </a:lnTo>
                  <a:lnTo>
                    <a:pt x="266" y="194"/>
                  </a:lnTo>
                  <a:lnTo>
                    <a:pt x="264" y="174"/>
                  </a:lnTo>
                  <a:lnTo>
                    <a:pt x="260" y="154"/>
                  </a:lnTo>
                  <a:lnTo>
                    <a:pt x="254" y="134"/>
                  </a:lnTo>
                  <a:lnTo>
                    <a:pt x="254" y="134"/>
                  </a:lnTo>
                  <a:lnTo>
                    <a:pt x="246" y="116"/>
                  </a:lnTo>
                  <a:lnTo>
                    <a:pt x="238" y="98"/>
                  </a:lnTo>
                  <a:lnTo>
                    <a:pt x="226" y="80"/>
                  </a:lnTo>
                  <a:lnTo>
                    <a:pt x="214" y="66"/>
                  </a:lnTo>
                  <a:lnTo>
                    <a:pt x="200" y="52"/>
                  </a:lnTo>
                  <a:lnTo>
                    <a:pt x="186" y="40"/>
                  </a:lnTo>
                  <a:lnTo>
                    <a:pt x="170" y="28"/>
                  </a:lnTo>
                  <a:lnTo>
                    <a:pt x="152" y="20"/>
                  </a:lnTo>
                  <a:lnTo>
                    <a:pt x="134" y="12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267552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6" y="0"/>
                  </a:moveTo>
                  <a:lnTo>
                    <a:pt x="136" y="0"/>
                  </a:lnTo>
                  <a:lnTo>
                    <a:pt x="116" y="8"/>
                  </a:lnTo>
                  <a:lnTo>
                    <a:pt x="98" y="18"/>
                  </a:lnTo>
                  <a:lnTo>
                    <a:pt x="82" y="28"/>
                  </a:lnTo>
                  <a:lnTo>
                    <a:pt x="66" y="40"/>
                  </a:lnTo>
                  <a:lnTo>
                    <a:pt x="54" y="54"/>
                  </a:lnTo>
                  <a:lnTo>
                    <a:pt x="40" y="68"/>
                  </a:lnTo>
                  <a:lnTo>
                    <a:pt x="30" y="84"/>
                  </a:lnTo>
                  <a:lnTo>
                    <a:pt x="20" y="102"/>
                  </a:lnTo>
                  <a:lnTo>
                    <a:pt x="14" y="120"/>
                  </a:lnTo>
                  <a:lnTo>
                    <a:pt x="8" y="138"/>
                  </a:lnTo>
                  <a:lnTo>
                    <a:pt x="4" y="15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2" y="216"/>
                  </a:lnTo>
                  <a:lnTo>
                    <a:pt x="6" y="236"/>
                  </a:lnTo>
                  <a:lnTo>
                    <a:pt x="12" y="254"/>
                  </a:lnTo>
                  <a:lnTo>
                    <a:pt x="12" y="254"/>
                  </a:lnTo>
                  <a:lnTo>
                    <a:pt x="20" y="274"/>
                  </a:lnTo>
                  <a:lnTo>
                    <a:pt x="28" y="292"/>
                  </a:lnTo>
                  <a:lnTo>
                    <a:pt x="40" y="308"/>
                  </a:lnTo>
                  <a:lnTo>
                    <a:pt x="52" y="324"/>
                  </a:lnTo>
                  <a:lnTo>
                    <a:pt x="66" y="338"/>
                  </a:lnTo>
                  <a:lnTo>
                    <a:pt x="80" y="350"/>
                  </a:lnTo>
                  <a:lnTo>
                    <a:pt x="96" y="360"/>
                  </a:lnTo>
                  <a:lnTo>
                    <a:pt x="114" y="370"/>
                  </a:lnTo>
                  <a:lnTo>
                    <a:pt x="130" y="378"/>
                  </a:lnTo>
                  <a:lnTo>
                    <a:pt x="150" y="384"/>
                  </a:lnTo>
                  <a:lnTo>
                    <a:pt x="168" y="388"/>
                  </a:lnTo>
                  <a:lnTo>
                    <a:pt x="188" y="390"/>
                  </a:lnTo>
                  <a:lnTo>
                    <a:pt x="206" y="390"/>
                  </a:lnTo>
                  <a:lnTo>
                    <a:pt x="226" y="388"/>
                  </a:lnTo>
                  <a:lnTo>
                    <a:pt x="246" y="384"/>
                  </a:lnTo>
                  <a:lnTo>
                    <a:pt x="266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4480" y="227268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4" y="194"/>
                  </a:moveTo>
                  <a:lnTo>
                    <a:pt x="64" y="194"/>
                  </a:lnTo>
                  <a:lnTo>
                    <a:pt x="84" y="186"/>
                  </a:lnTo>
                  <a:lnTo>
                    <a:pt x="98" y="174"/>
                  </a:lnTo>
                  <a:lnTo>
                    <a:pt x="112" y="160"/>
                  </a:lnTo>
                  <a:lnTo>
                    <a:pt x="122" y="144"/>
                  </a:lnTo>
                  <a:lnTo>
                    <a:pt x="128" y="126"/>
                  </a:lnTo>
                  <a:lnTo>
                    <a:pt x="132" y="106"/>
                  </a:lnTo>
                  <a:lnTo>
                    <a:pt x="132" y="88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18" y="48"/>
                  </a:lnTo>
                  <a:lnTo>
                    <a:pt x="106" y="34"/>
                  </a:lnTo>
                  <a:lnTo>
                    <a:pt x="92" y="20"/>
                  </a:lnTo>
                  <a:lnTo>
                    <a:pt x="76" y="10"/>
                  </a:lnTo>
                  <a:lnTo>
                    <a:pt x="58" y="4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4040" y="243972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6" y="0"/>
                  </a:moveTo>
                  <a:lnTo>
                    <a:pt x="66" y="0"/>
                  </a:lnTo>
                  <a:lnTo>
                    <a:pt x="48" y="8"/>
                  </a:lnTo>
                  <a:lnTo>
                    <a:pt x="32" y="20"/>
                  </a:lnTo>
                  <a:lnTo>
                    <a:pt x="18" y="34"/>
                  </a:lnTo>
                  <a:lnTo>
                    <a:pt x="8" y="52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12" y="146"/>
                  </a:lnTo>
                  <a:lnTo>
                    <a:pt x="24" y="162"/>
                  </a:lnTo>
                  <a:lnTo>
                    <a:pt x="38" y="174"/>
                  </a:lnTo>
                  <a:lnTo>
                    <a:pt x="56" y="186"/>
                  </a:lnTo>
                  <a:lnTo>
                    <a:pt x="74" y="192"/>
                  </a:lnTo>
                  <a:lnTo>
                    <a:pt x="92" y="194"/>
                  </a:lnTo>
                  <a:lnTo>
                    <a:pt x="112" y="194"/>
                  </a:lnTo>
                  <a:lnTo>
                    <a:pt x="132" y="1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0640" y="750960"/>
              <a:ext cx="139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- linac 2.2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4760" y="164016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0840" y="243072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2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13080" y="2877840"/>
              <a:ext cx="1104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ecirculat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s 2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8520" y="3535560"/>
              <a:ext cx="137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ring –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00 m circumfere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30040" y="1713600"/>
              <a:ext cx="572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o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46880" y="2088720"/>
              <a:ext cx="80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hase ro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2600" y="3921120"/>
              <a:ext cx="123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62400" y="18162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ri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1800" y="96876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38040" y="1401840"/>
              <a:ext cx="532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90400" y="4744440"/>
              <a:ext cx="132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ne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8880" y="1712880"/>
            <a:ext cx="194868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PL Super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60000" y="2840040"/>
            <a:ext cx="199116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utrino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90600" y="5343480"/>
            <a:ext cx="136332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ta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601040" y="5059440"/>
            <a:ext cx="981000" cy="917640"/>
            <a:chOff x="7601040" y="5059440"/>
            <a:chExt cx="981000" cy="917640"/>
          </a:xfrm>
        </p:grpSpPr>
        <p:sp>
          <p:nvSpPr>
            <p:cNvPr id="261" name=""/>
            <p:cNvSpPr/>
            <p:nvPr/>
          </p:nvSpPr>
          <p:spPr>
            <a:xfrm>
              <a:off x="7823160" y="5307120"/>
              <a:ext cx="52092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78" y="24"/>
                  </a:moveTo>
                  <a:lnTo>
                    <a:pt x="78" y="24"/>
                  </a:lnTo>
                  <a:lnTo>
                    <a:pt x="98" y="12"/>
                  </a:lnTo>
                  <a:lnTo>
                    <a:pt x="120" y="6"/>
                  </a:lnTo>
                  <a:lnTo>
                    <a:pt x="142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2"/>
                  </a:lnTo>
                  <a:lnTo>
                    <a:pt x="214" y="6"/>
                  </a:lnTo>
                  <a:lnTo>
                    <a:pt x="228" y="12"/>
                  </a:lnTo>
                  <a:lnTo>
                    <a:pt x="242" y="18"/>
                  </a:lnTo>
                  <a:lnTo>
                    <a:pt x="256" y="28"/>
                  </a:lnTo>
                  <a:lnTo>
                    <a:pt x="270" y="36"/>
                  </a:lnTo>
                  <a:lnTo>
                    <a:pt x="280" y="48"/>
                  </a:lnTo>
                  <a:lnTo>
                    <a:pt x="292" y="58"/>
                  </a:lnTo>
                  <a:lnTo>
                    <a:pt x="300" y="72"/>
                  </a:lnTo>
                  <a:lnTo>
                    <a:pt x="310" y="84"/>
                  </a:lnTo>
                  <a:lnTo>
                    <a:pt x="316" y="100"/>
                  </a:lnTo>
                  <a:lnTo>
                    <a:pt x="322" y="114"/>
                  </a:lnTo>
                  <a:lnTo>
                    <a:pt x="326" y="130"/>
                  </a:lnTo>
                  <a:lnTo>
                    <a:pt x="328" y="146"/>
                  </a:lnTo>
                  <a:lnTo>
                    <a:pt x="328" y="164"/>
                  </a:lnTo>
                  <a:lnTo>
                    <a:pt x="328" y="164"/>
                  </a:lnTo>
                  <a:lnTo>
                    <a:pt x="328" y="180"/>
                  </a:lnTo>
                  <a:lnTo>
                    <a:pt x="326" y="196"/>
                  </a:lnTo>
                  <a:lnTo>
                    <a:pt x="322" y="212"/>
                  </a:lnTo>
                  <a:lnTo>
                    <a:pt x="316" y="228"/>
                  </a:lnTo>
                  <a:lnTo>
                    <a:pt x="310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4"/>
                  </a:lnTo>
                  <a:lnTo>
                    <a:pt x="214" y="320"/>
                  </a:lnTo>
                  <a:lnTo>
                    <a:pt x="198" y="324"/>
                  </a:lnTo>
                  <a:lnTo>
                    <a:pt x="182" y="326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6"/>
                  </a:lnTo>
                  <a:lnTo>
                    <a:pt x="132" y="324"/>
                  </a:lnTo>
                  <a:lnTo>
                    <a:pt x="116" y="320"/>
                  </a:lnTo>
                  <a:lnTo>
                    <a:pt x="100" y="314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2"/>
                  </a:lnTo>
                  <a:lnTo>
                    <a:pt x="4" y="196"/>
                  </a:lnTo>
                  <a:lnTo>
                    <a:pt x="2" y="18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5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35760" y="5640480"/>
              <a:ext cx="8280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52" y="80"/>
                  </a:lnTo>
                  <a:lnTo>
                    <a:pt x="34" y="62"/>
                  </a:lnTo>
                  <a:lnTo>
                    <a:pt x="20" y="44"/>
                  </a:lnTo>
                  <a:lnTo>
                    <a:pt x="8" y="24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560" y="5767560"/>
              <a:ext cx="177840" cy="60120"/>
            </a:xfrm>
            <a:custGeom>
              <a:avLst/>
              <a:gdLst/>
              <a:ahLst/>
              <a:rect l="l" t="t" r="r" b="b"/>
              <a:pathLst>
                <a:path w="112" h="38">
                  <a:moveTo>
                    <a:pt x="112" y="38"/>
                  </a:moveTo>
                  <a:lnTo>
                    <a:pt x="112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90" y="36"/>
                  </a:lnTo>
                  <a:lnTo>
                    <a:pt x="76" y="34"/>
                  </a:lnTo>
                  <a:lnTo>
                    <a:pt x="62" y="32"/>
                  </a:lnTo>
                  <a:lnTo>
                    <a:pt x="48" y="28"/>
                  </a:lnTo>
                  <a:lnTo>
                    <a:pt x="34" y="22"/>
                  </a:lnTo>
                  <a:lnTo>
                    <a:pt x="22" y="16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18360" y="5307120"/>
              <a:ext cx="104760" cy="381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0" y="0"/>
                  </a:moveTo>
                  <a:lnTo>
                    <a:pt x="0" y="0"/>
                  </a:lnTo>
                  <a:lnTo>
                    <a:pt x="18" y="4"/>
                  </a:lnTo>
                  <a:lnTo>
                    <a:pt x="34" y="8"/>
                  </a:lnTo>
                  <a:lnTo>
                    <a:pt x="50" y="16"/>
                  </a:lnTo>
                  <a:lnTo>
                    <a:pt x="66" y="2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96400" y="5697720"/>
              <a:ext cx="212760" cy="12996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134" y="0"/>
                  </a:moveTo>
                  <a:lnTo>
                    <a:pt x="134" y="0"/>
                  </a:lnTo>
                  <a:lnTo>
                    <a:pt x="122" y="18"/>
                  </a:lnTo>
                  <a:lnTo>
                    <a:pt x="110" y="32"/>
                  </a:lnTo>
                  <a:lnTo>
                    <a:pt x="94" y="46"/>
                  </a:lnTo>
                  <a:lnTo>
                    <a:pt x="78" y="58"/>
                  </a:lnTo>
                  <a:lnTo>
                    <a:pt x="60" y="66"/>
                  </a:lnTo>
                  <a:lnTo>
                    <a:pt x="42" y="74"/>
                  </a:lnTo>
                  <a:lnTo>
                    <a:pt x="22" y="78"/>
                  </a:lnTo>
                  <a:lnTo>
                    <a:pt x="0" y="82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  <a:close/>
                  <a:moveTo>
                    <a:pt x="52" y="12"/>
                  </a:moveTo>
                  <a:lnTo>
                    <a:pt x="52" y="12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34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6" y="5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4" y="6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4" y="5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21640" y="5389560"/>
              <a:ext cx="66600" cy="10188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8" y="6"/>
                  </a:moveTo>
                  <a:lnTo>
                    <a:pt x="38" y="6"/>
                  </a:lnTo>
                  <a:lnTo>
                    <a:pt x="42" y="1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2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2" y="5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6"/>
                  </a:lnTo>
                  <a:lnTo>
                    <a:pt x="3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V="1">
            <a:off x="4719600" y="391644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FFD-4C2A-47A2-98D9-CC7C185E9C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rticipant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23760" y="1185840"/>
            <a:ext cx="7229520" cy="52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EAF-5629-4DC9-9628-4CB6554EDC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5400000">
            <a:off x="-284760" y="3993120"/>
            <a:ext cx="4105080" cy="144000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0680" y="2733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20680" y="3236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0680" y="3741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0680" y="424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20680" y="47829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0680" y="53276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7680" y="1979640"/>
            <a:ext cx="118764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20680" y="58881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Overview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573120"/>
            <a:ext cx="3889440" cy="7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1725480"/>
            <a:ext cx="3457440" cy="719280"/>
          </a:xfrm>
          <a:prstGeom prst="rect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6372000" y="3597120"/>
            <a:ext cx="3313080" cy="144000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5280" y="644400"/>
            <a:ext cx="86544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0872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a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51640" y="3452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51640" y="280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51640" y="4102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51640" y="4749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53974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131640" y="1220400"/>
            <a:ext cx="360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492360" y="1220400"/>
            <a:ext cx="50328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492360" y="1220400"/>
            <a:ext cx="244800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211280" y="1220400"/>
            <a:ext cx="36036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132000" y="1220400"/>
            <a:ext cx="144000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5003640" y="1220400"/>
            <a:ext cx="6494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131640" y="1220400"/>
            <a:ext cx="25196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651640" y="1220400"/>
            <a:ext cx="215640" cy="576360"/>
          </a:xfrm>
          <a:prstGeom prst="line">
            <a:avLst/>
          </a:prstGeom>
          <a:ln w="1908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352600" y="2373480"/>
            <a:ext cx="1139760" cy="50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338200" y="2373480"/>
            <a:ext cx="1153800" cy="10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336760" y="2373480"/>
            <a:ext cx="1155600" cy="155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368080" y="2373480"/>
            <a:ext cx="2203560" cy="507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52240" y="2373480"/>
            <a:ext cx="2219400" cy="1033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329920" y="2373480"/>
            <a:ext cx="2241720" cy="3132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398680" y="2373480"/>
            <a:ext cx="3252960" cy="514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368440" y="2373480"/>
            <a:ext cx="3283200" cy="102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368440" y="2373480"/>
            <a:ext cx="3283200" cy="15238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44680" y="2373480"/>
            <a:ext cx="3306960" cy="20491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22360" y="2373480"/>
            <a:ext cx="3329280" cy="2600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328840" y="2373480"/>
            <a:ext cx="3322800" cy="314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2373480"/>
            <a:ext cx="395928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2360" y="2373480"/>
            <a:ext cx="3959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373480"/>
            <a:ext cx="2879640" cy="64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373480"/>
            <a:ext cx="28796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51640" y="2373480"/>
            <a:ext cx="1800000" cy="129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373480"/>
            <a:ext cx="1800000" cy="19429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373480"/>
            <a:ext cx="1800000" cy="25905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88000" y="573120"/>
            <a:ext cx="935280" cy="647640"/>
          </a:xfrm>
          <a:prstGeom prst="flowChartPunchedTap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96360" y="6045120"/>
            <a:ext cx="934920" cy="647640"/>
          </a:xfrm>
          <a:prstGeom prst="flowChartPunchedTape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72360" y="1725480"/>
            <a:ext cx="934920" cy="648000"/>
          </a:xfrm>
          <a:prstGeom prst="flowChartPunchedTape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46480" y="2381400"/>
            <a:ext cx="2201760" cy="37400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422-E35C-4994-B052-2B4BC0EE30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rot="5400000">
            <a:off x="-1152000" y="3509280"/>
            <a:ext cx="4105080" cy="143964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4160" y="2249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160" y="275256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160" y="3257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4160" y="37609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4160" y="42991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160" y="484344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160" y="1495440"/>
            <a:ext cx="118728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4160" y="540396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Work Packages and Deliverable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2212920"/>
            <a:ext cx="234720" cy="144468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3780000"/>
            <a:ext cx="234720" cy="144432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413320"/>
            <a:ext cx="234720" cy="465120"/>
          </a:xfrm>
          <a:custGeom>
            <a:avLst/>
            <a:gdLst>
              <a:gd name="textAreaLeft" fmla="*/ 0 w 234720"/>
              <a:gd name="textAreaRight" fmla="*/ 84600 w 2347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6400" y="259092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per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73520" y="418932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eutrino 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76400" y="534996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eta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7840" y="99864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order to underline synergie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4439880" y="3486240"/>
            <a:ext cx="3313080" cy="143964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19880" y="334152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19880" y="26938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inst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19880" y="39909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19880" y="463860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19880" y="5218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67360" y="2760840"/>
            <a:ext cx="235080" cy="144432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09440" y="31384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67360" y="4454640"/>
            <a:ext cx="235080" cy="144468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1240" y="48322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17E-158C-4D47-9A01-9E71EC126E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23:45:35Z</dcterms:created>
  <dc:creator>M. Dracos</dc:creator>
  <dc:description/>
  <cp:keywords/>
  <dc:language>en-US</dc:language>
  <cp:lastModifiedBy>Marcos Dracos</cp:lastModifiedBy>
  <cp:lastPrinted>2001-02-22T08:59:03Z</cp:lastPrinted>
  <dcterms:modified xsi:type="dcterms:W3CDTF">2007-10-04T00:41:33Z</dcterms:modified>
  <cp:revision>39</cp:revision>
  <dc:subject/>
  <dc:title>The European Design Study for a high intensity neutrino oscillation facility </dc:title>
</cp:coreProperties>
</file>